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83BC-3CFE-4034-B429-3AE3F449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68B6-4C67-4A0A-8443-83723E1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6747-88B5-4CFC-8B94-3545049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BF20-CA53-47CC-8026-1EAD3DB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EF1B-D8CA-4633-B9F3-2D016BBB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9596-E8B3-4896-973A-CEEDEFA0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307D-5942-40B4-B02A-BD9B9D74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40EA-D73B-4AA5-A403-90F1291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63D1-BCE4-491E-AD0A-DCC56E3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372E-F216-4A5B-9023-6ABFDCDD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925-6B97-48B2-A19A-C45E8A0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79C5-ED16-499A-91BF-0CCD10A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D8F8-3F05-4999-94DC-940963B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8F3-A2BB-4A12-A8C3-B9C539F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5843-B3EA-4DEE-9058-1B271C8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17D-413A-43F8-9821-3503463E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425-828D-43A9-AA87-ECA07C9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5121-1341-4BBE-B97B-4C071DE4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9976-F21E-48BB-95EF-168584A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658D-ED68-4F10-9A2C-5238D9F5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4A78-DAFE-4E93-84CC-AD1A6551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08DE-9CBE-4807-AEBC-C990215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68FE-6B3A-4A46-B9FD-B7FCFC5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D32B-1B56-4344-86DF-263C78E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02A6-2E55-4EDC-AD64-00EE4088706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4F8-A0B6-4680-BB9C-FC69D9E1483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3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28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мило чадо, труженик небесен, след Мен върви през бури и вълни! Напред на служба с най-възторжна пес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ълга свещен в живота изпъл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Овци далече има заблуде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 скитат морни там в пустинят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тез души окаяни, примре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Мене доведи в кошара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нозина има бедни, наскърбени, мнозина болни страдат покрай теб; не щеш ли на такива с чувства неж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даваш утешение и хляб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Иди със името Исус Христово, спасителната вест разнасяй вред; бъди ти пример в дело и във слово, води мнозина в Божи път напред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Бъди с Христа през кратки земни скърб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коро ще си ти във Божи ра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арфа, облекло, небесни дарб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лаженство, славословия без край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6:37Z</dcterms:modified>
  <cp:revision>165</cp:revision>
  <dc:subject/>
  <dc:title>Slide 1</dc:title>
</cp:coreProperties>
</file>